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" ContentType="application/vnd.ms-exce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22CDE5-FE8D-4D93-B27B-21A333963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Num" idx="7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3EEAA3-F42B-4AEB-AE12-3EA63A520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Num" idx="16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6F2F95-5C02-4D76-A6D4-DAAABE59A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7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35A4C3-359D-4674-828C-F5246368E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8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112808-B6B6-4CB0-969F-C249C23FA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8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546122-BED3-496D-A257-E2CB3C630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Num" idx="9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84E7EB-D1F5-4F59-920E-8FE6BDF43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Num" idx="10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0AD0AD-6F2D-4075-BE5A-40326426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Num" idx="11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740B62-C63C-4B5D-9FDE-6E21A4CDE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Num" idx="12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8B0845-8442-44DB-BFE8-D65BD787F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13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C8C181-27D1-4631-95EA-A43A85814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Num" idx="14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4F2919-37BF-4750-9322-7676B6E7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15"/>
          </p:nvPr>
        </p:nvSpPr>
        <p:spPr>
          <a:xfrm>
            <a:off x="3976560" y="8839080"/>
            <a:ext cx="304128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4B0E5D-A6C2-429D-981C-40B8C4ABA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0840" cy="3489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3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3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46000" y="4564080"/>
            <a:ext cx="5616360" cy="41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4BE-D4A2-4A78-A9FB-6CDC4296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E15-A9F5-4424-A259-6DDE83EC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398-FECF-4C72-9F14-C7F000F9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678-41E1-405A-A770-7A5C540B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0FE-FA00-4565-82A4-478080FE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EDB-45FC-40AC-ADC9-C4D5F9A0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C9C-0B99-48A3-813F-5E059DEC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65A-F1F9-4FA1-B63A-29040A65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6CC-8332-451A-BAA0-17ED2C51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1EC-AD58-4028-B508-277C5472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C82-FA8A-4BD2-A1A2-B67293E8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F24-A4CF-4348-918D-15EB1CE6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9AB565-1874-4540-800D-323F05FFE3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4"/>
          <p:cNvSpPr/>
          <p:nvPr/>
        </p:nvSpPr>
        <p:spPr>
          <a:xfrm>
            <a:off x="1066680" y="1809720"/>
            <a:ext cx="3053880" cy="206784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4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56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 flipV="1">
            <a:off x="0" y="3860640"/>
            <a:ext cx="9144000" cy="19080"/>
          </a:xfrm>
          <a:prstGeom prst="line">
            <a:avLst/>
          </a:prstGeom>
          <a:ln w="254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5"/>
          <p:cNvSpPr/>
          <p:nvPr/>
        </p:nvSpPr>
        <p:spPr>
          <a:xfrm>
            <a:off x="1077840" y="18720"/>
            <a:ext cx="19080" cy="6839280"/>
          </a:xfrm>
          <a:prstGeom prst="line">
            <a:avLst/>
          </a:prstGeom>
          <a:ln w="254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5614920"/>
            <a:ext cx="9143640" cy="91404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OW LITTLE  ECONOMICS CAN TELL US ABOUT THE VALUE OF EARLY CHILDHOOD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3"/>
          <p:cNvGraphicFramePr/>
          <p:nvPr/>
        </p:nvGraphicFramePr>
        <p:xfrm>
          <a:off x="368280" y="939960"/>
          <a:ext cx="8521200" cy="562572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39960"/>
                    <a:ext cx="8521200" cy="56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4"/>
          <p:cNvSpPr/>
          <p:nvPr/>
        </p:nvSpPr>
        <p:spPr>
          <a:xfrm>
            <a:off x="0" y="0"/>
            <a:ext cx="1472760" cy="17737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 flipH="1">
            <a:off x="5448240" y="2038320"/>
            <a:ext cx="253368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 flipH="1">
            <a:off x="5491080" y="3236760"/>
            <a:ext cx="125100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5727600" y="2031840"/>
            <a:ext cx="360" cy="1206360"/>
          </a:xfrm>
          <a:prstGeom prst="line">
            <a:avLst/>
          </a:prstGeom>
          <a:ln w="38100">
            <a:solidFill>
              <a:srgbClr val="000000"/>
            </a:solidFill>
            <a:round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853160" y="2414520"/>
            <a:ext cx="1657080" cy="2743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$412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V="1">
            <a:off x="1638000" y="4324320"/>
            <a:ext cx="7048800" cy="495000"/>
          </a:xfrm>
          <a:prstGeom prst="line">
            <a:avLst/>
          </a:prstGeom>
          <a:ln w="381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1892160" y="3549600"/>
            <a:ext cx="2495160" cy="8233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cted increase through population growth &amp;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152600" y="4000320"/>
            <a:ext cx="571680" cy="571680"/>
          </a:xfrm>
          <a:prstGeom prst="line">
            <a:avLst/>
          </a:prstGeom>
          <a:ln w="31750">
            <a:solidFill>
              <a:srgbClr val="00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610000" y="0"/>
            <a:ext cx="6533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lot easier to count and to attribute costs than it is benefits – so costs often dominate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125800" y="344520"/>
            <a:ext cx="361440" cy="345960"/>
          </a:xfrm>
          <a:prstGeom prst="rect">
            <a:avLst/>
          </a:prstGeom>
          <a:solidFill>
            <a:srgbClr val="8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NZ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472760" cy="17737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982800" y="1287360"/>
            <a:ext cx="782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THE TRICK IS IN THE CAUS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95280" y="1816200"/>
            <a:ext cx="8457840" cy="447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a credible case for the economic value of publicly subsidised ECE we need to be able to establish the interdependency and causality described by the arrows in the benefit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cases this can be done fairly well using various social research techniques – in other cases the links and causality are more hypothetical because of the existence of other causal factors in any social out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nefits add up very quickly however in dollar terms and there are a variety of benefit streams from ECE which could make the additional expenditure justifiable in economic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1472760" cy="17737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214720" y="285840"/>
            <a:ext cx="628128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GB" sz="2400" spc="-1" strike="noStrike">
                <a:solidFill>
                  <a:srgbClr val="9e0000"/>
                </a:solidFill>
                <a:latin typeface="Arial"/>
              </a:rPr>
              <a:t>But is the case for continued spending of ECE even an economic o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971640" y="1625760"/>
            <a:ext cx="7691040" cy="490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ic analysis should support decision-making and not constrain it or conclude it – decisions should be based on sound moral arguments although these will be laced with pragma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sions around ECE investments should be made in the context of the wider priorities of the society and not be based on narrow perspectives such as those of tax imp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ly decisions around the priority given to ECE and other social priorities should be based on notions of citizenship and the rights and responsibilities which stem from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80880" y="2038320"/>
            <a:ext cx="361440" cy="345960"/>
          </a:xfrm>
          <a:prstGeom prst="rect">
            <a:avLst/>
          </a:prstGeom>
          <a:solidFill>
            <a:srgbClr val="8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NZ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39560" y="3630600"/>
            <a:ext cx="361440" cy="345960"/>
          </a:xfrm>
          <a:prstGeom prst="rect">
            <a:avLst/>
          </a:prstGeom>
          <a:solidFill>
            <a:srgbClr val="8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NZ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4840" y="5376960"/>
            <a:ext cx="361440" cy="345960"/>
          </a:xfrm>
          <a:prstGeom prst="rect">
            <a:avLst/>
          </a:prstGeom>
          <a:solidFill>
            <a:srgbClr val="8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NZ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2087640" y="361800"/>
          <a:ext cx="6237000" cy="411912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361800"/>
                    <a:ext cx="6237000" cy="41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6"/>
          <p:cNvSpPr/>
          <p:nvPr/>
        </p:nvSpPr>
        <p:spPr>
          <a:xfrm>
            <a:off x="0" y="4545000"/>
            <a:ext cx="889128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ween 2000 and 2009 the number of children enrolled in an early childhood centre increased by 17% to 180,100 plac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the same period the population of children aged under 5 year increased just 7% to 306,000.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vailability of ECE places increased from 54% of th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 5 population to 5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0"/>
            <a:ext cx="1472760" cy="17737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47680" y="4906800"/>
            <a:ext cx="86436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the period 2000-10  Government spending on early childhood education operating subsidies increased 269% and by nearly 190% if these costs are adjusted for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457280" y="304920"/>
          <a:ext cx="7095600" cy="468612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04920"/>
                    <a:ext cx="709560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6"/>
          <p:cNvSpPr/>
          <p:nvPr/>
        </p:nvSpPr>
        <p:spPr>
          <a:xfrm>
            <a:off x="0" y="0"/>
            <a:ext cx="1472760" cy="17737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4545000"/>
            <a:ext cx="889128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has meant that the taxpayer subsidy per student attending ECE rose 143% in inflation adjusted terms from $2,630 per child per year in 2000 to $6,373 per child per year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allowing for the fact that the average length of attendance at ECE has increased 40% over this period, the per chil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idy has increased 73% in real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1571760" y="0"/>
          <a:ext cx="7095600" cy="468612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0"/>
                    <a:ext cx="709560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6"/>
          <p:cNvSpPr/>
          <p:nvPr/>
        </p:nvSpPr>
        <p:spPr>
          <a:xfrm>
            <a:off x="0" y="0"/>
            <a:ext cx="1472760" cy="17737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347920" y="247680"/>
            <a:ext cx="628128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GB" sz="2400" spc="-1" strike="noStrike">
                <a:solidFill>
                  <a:srgbClr val="9e0000"/>
                </a:solidFill>
                <a:latin typeface="Arial"/>
              </a:rPr>
              <a:t>These are startling increases which really need to be explained in terms of what extra benefits the taxpayers and citizens are getting for this increased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GB" sz="2400" spc="-1" strike="noStrike">
                <a:solidFill>
                  <a:srgbClr val="9e0000"/>
                </a:solidFill>
                <a:latin typeface="Arial"/>
              </a:rPr>
              <a:t>However in looking for such an explanation we need to be mindful of three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66720" y="2692440"/>
            <a:ext cx="8210160" cy="380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should not assume that everything about the funding of the sector was acceptable before the increas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some of this new expenditure might be catch-up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lot easier to count and to attribute costs than it is benefits – so costs often dominate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think about the distributional issues around the new expenditure – who wins and who pays and do they deserve to or are they happy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28600" y="2895480"/>
            <a:ext cx="361440" cy="345960"/>
          </a:xfrm>
          <a:prstGeom prst="rect">
            <a:avLst/>
          </a:prstGeom>
          <a:solidFill>
            <a:srgbClr val="8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NZ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58840" y="4611600"/>
            <a:ext cx="361440" cy="345960"/>
          </a:xfrm>
          <a:prstGeom prst="rect">
            <a:avLst/>
          </a:prstGeom>
          <a:solidFill>
            <a:srgbClr val="8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NZ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64960" y="5538960"/>
            <a:ext cx="361440" cy="345960"/>
          </a:xfrm>
          <a:prstGeom prst="rect">
            <a:avLst/>
          </a:prstGeom>
          <a:solidFill>
            <a:srgbClr val="8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NZ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0"/>
            <a:ext cx="1472760" cy="17737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610000" y="0"/>
            <a:ext cx="6533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lot easier to count and to attribute costs than it is benefits – so costs often dominate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25800" y="344520"/>
            <a:ext cx="361440" cy="345960"/>
          </a:xfrm>
          <a:prstGeom prst="rect">
            <a:avLst/>
          </a:prstGeom>
          <a:solidFill>
            <a:srgbClr val="8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NZ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0"/>
            <a:ext cx="1472760" cy="17737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668600" y="1287360"/>
            <a:ext cx="6533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HOW MIGHT THE BENEFITS AR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583000" y="1782720"/>
            <a:ext cx="4323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CHILDHOO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6060960" y="2517840"/>
            <a:ext cx="1904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1290600" y="2516040"/>
            <a:ext cx="1784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3424320" y="5424480"/>
            <a:ext cx="2514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IN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3435480" y="6178680"/>
            <a:ext cx="2514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952560" y="3333600"/>
            <a:ext cx="251424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labour force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6953400" y="3218040"/>
            <a:ext cx="1961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risk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3973680" y="3209760"/>
            <a:ext cx="25333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t risk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3770280" y="3857760"/>
            <a:ext cx="2685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educational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6553080" y="3857760"/>
            <a:ext cx="23238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rates of educational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5268960" y="4657680"/>
            <a:ext cx="2361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6640560" y="5191200"/>
            <a:ext cx="21715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SOCI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6621480" y="6156360"/>
            <a:ext cx="252216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TAX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2"/>
          <p:cNvSpPr/>
          <p:nvPr/>
        </p:nvSpPr>
        <p:spPr>
          <a:xfrm flipH="1">
            <a:off x="2933640" y="2190600"/>
            <a:ext cx="1771560" cy="49536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 flipH="1">
            <a:off x="5313240" y="2855880"/>
            <a:ext cx="1479600" cy="39348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4879800" y="2174760"/>
            <a:ext cx="1352520" cy="49536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5"/>
          <p:cNvSpPr/>
          <p:nvPr/>
        </p:nvSpPr>
        <p:spPr>
          <a:xfrm>
            <a:off x="6957720" y="2868480"/>
            <a:ext cx="1365480" cy="39348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6"/>
          <p:cNvSpPr/>
          <p:nvPr/>
        </p:nvSpPr>
        <p:spPr>
          <a:xfrm flipH="1">
            <a:off x="2214360" y="2817720"/>
            <a:ext cx="6480" cy="62208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"/>
          <p:cNvSpPr/>
          <p:nvPr/>
        </p:nvSpPr>
        <p:spPr>
          <a:xfrm>
            <a:off x="5121000" y="3546360"/>
            <a:ext cx="6480" cy="35568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7818120" y="3538440"/>
            <a:ext cx="6480" cy="35568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9"/>
          <p:cNvSpPr/>
          <p:nvPr/>
        </p:nvSpPr>
        <p:spPr>
          <a:xfrm>
            <a:off x="7831080" y="4516200"/>
            <a:ext cx="6120" cy="69840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0"/>
          <p:cNvSpPr/>
          <p:nvPr/>
        </p:nvSpPr>
        <p:spPr>
          <a:xfrm>
            <a:off x="5100480" y="4452840"/>
            <a:ext cx="247680" cy="40644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1"/>
          <p:cNvSpPr/>
          <p:nvPr/>
        </p:nvSpPr>
        <p:spPr>
          <a:xfrm flipH="1">
            <a:off x="7443720" y="4503600"/>
            <a:ext cx="196560" cy="26676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2"/>
          <p:cNvSpPr/>
          <p:nvPr/>
        </p:nvSpPr>
        <p:spPr>
          <a:xfrm>
            <a:off x="2230200" y="3982680"/>
            <a:ext cx="1594080" cy="144792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3"/>
          <p:cNvSpPr/>
          <p:nvPr/>
        </p:nvSpPr>
        <p:spPr>
          <a:xfrm flipH="1">
            <a:off x="5644800" y="4991040"/>
            <a:ext cx="844560" cy="48240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4"/>
          <p:cNvSpPr/>
          <p:nvPr/>
        </p:nvSpPr>
        <p:spPr>
          <a:xfrm flipH="1">
            <a:off x="4806720" y="5778360"/>
            <a:ext cx="6480" cy="40644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5"/>
          <p:cNvSpPr/>
          <p:nvPr/>
        </p:nvSpPr>
        <p:spPr>
          <a:xfrm>
            <a:off x="7840440" y="5821200"/>
            <a:ext cx="6480" cy="39384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6"/>
          <p:cNvSpPr/>
          <p:nvPr/>
        </p:nvSpPr>
        <p:spPr>
          <a:xfrm flipH="1">
            <a:off x="2558880" y="5663880"/>
            <a:ext cx="920880" cy="12708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8"/>
          <p:cNvSpPr/>
          <p:nvPr/>
        </p:nvSpPr>
        <p:spPr>
          <a:xfrm>
            <a:off x="825480" y="5505480"/>
            <a:ext cx="192996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610000" y="0"/>
            <a:ext cx="6533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lot easier to count and to attribute costs than it is benefits – so costs often dominate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25800" y="344520"/>
            <a:ext cx="361440" cy="345960"/>
          </a:xfrm>
          <a:prstGeom prst="rect">
            <a:avLst/>
          </a:prstGeom>
          <a:solidFill>
            <a:srgbClr val="8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NZ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1472760" cy="17737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230480" y="1287360"/>
            <a:ext cx="7581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INCREASED LABOUR MARKET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83000" y="1782720"/>
            <a:ext cx="4323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CHILDHOO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290600" y="2516040"/>
            <a:ext cx="1784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424320" y="5424480"/>
            <a:ext cx="2514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IN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435480" y="6178680"/>
            <a:ext cx="2514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952560" y="3333600"/>
            <a:ext cx="251424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labour force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>
            <a:off x="2933640" y="2190600"/>
            <a:ext cx="1771560" cy="49536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2214360" y="2817720"/>
            <a:ext cx="6480" cy="62208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2230200" y="3982680"/>
            <a:ext cx="1594080" cy="144792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H="1">
            <a:off x="4806720" y="5778360"/>
            <a:ext cx="6480" cy="406440"/>
          </a:xfrm>
          <a:prstGeom prst="line">
            <a:avLst/>
          </a:prstGeom>
          <a:ln w="25400">
            <a:solidFill>
              <a:srgbClr val="9e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610000" y="0"/>
            <a:ext cx="6533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lot easier to count and to attribute costs than it is benefits – so costs often dominate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25800" y="344520"/>
            <a:ext cx="361440" cy="345960"/>
          </a:xfrm>
          <a:prstGeom prst="rect">
            <a:avLst/>
          </a:prstGeom>
          <a:solidFill>
            <a:srgbClr val="8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NZ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472760" cy="17737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230480" y="1287360"/>
            <a:ext cx="7581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INCREASED LABOUR MARKET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5"/>
          <p:cNvGraphicFramePr/>
          <p:nvPr/>
        </p:nvGraphicFramePr>
        <p:xfrm>
          <a:off x="338040" y="1643040"/>
          <a:ext cx="8467200" cy="539856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2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643040"/>
                    <a:ext cx="8467200" cy="53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16"/>
          <p:cNvSpPr/>
          <p:nvPr/>
        </p:nvSpPr>
        <p:spPr>
          <a:xfrm flipV="1">
            <a:off x="3238200" y="4466880"/>
            <a:ext cx="3543480" cy="28800"/>
          </a:xfrm>
          <a:prstGeom prst="line">
            <a:avLst/>
          </a:prstGeom>
          <a:ln w="38100">
            <a:solidFill>
              <a:srgbClr val="ffffff"/>
            </a:solidFill>
            <a:round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6771960" y="2800080"/>
            <a:ext cx="360" cy="171468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610000" y="0"/>
            <a:ext cx="6533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lot easier to count and to attribute costs than it is benefits – so costs often dominate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125800" y="344520"/>
            <a:ext cx="361440" cy="345960"/>
          </a:xfrm>
          <a:prstGeom prst="rect">
            <a:avLst/>
          </a:prstGeom>
          <a:solidFill>
            <a:srgbClr val="8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NZ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472760" cy="17737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 algn="ctr">
              <a:lnSpc>
                <a:spcPct val="8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COS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VERYTHING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AND THE VALUE OF</a:t>
            </a: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230480" y="1287360"/>
            <a:ext cx="7581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INCREASED LABOUR MARKET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936720" y="1832040"/>
            <a:ext cx="75816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ale labour force participation 59.4%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62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ale employment rose by 124,00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52480" y="2901960"/>
            <a:ext cx="758160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ale average hours worked = 36.5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hourly rate = $23.50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income = $44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income for all workers - $5.5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x revenue at 15% tax rate - $82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738360" y="5310360"/>
            <a:ext cx="75816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tax revenue if half increased participation is attributable to subsidized child care  = $412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  <Words>825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09:59:03Z</dcterms:created>
  <dc:creator>Thomas</dc:creator>
  <dc:description/>
  <dc:language>en-US</dc:language>
  <cp:lastModifiedBy>The Salvation Army</cp:lastModifiedBy>
  <dcterms:modified xsi:type="dcterms:W3CDTF">2010-11-04T19:24:21Z</dcterms:modified>
  <cp:revision>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