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A44-7AEA-4112-B7FC-8D266CDC7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138-E830-4C26-A14B-37C4A768CF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251-F69D-41D9-9F58-8A631E3899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F307-7BDA-4FE0-8209-0877F980AB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61A-5BCA-456E-91FF-47DDCECCB5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47E-CD08-4001-8EE4-E580BD9066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BC9-5D1C-4B64-8CC1-F9C0E323CA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8C88-5D22-4A31-9AFA-6A4D343B51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C0A-40E3-4324-9815-33DBA8CEFB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8BA2-4332-410C-A77F-6626ECD87C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ABC-6F45-4D08-B34B-AB9DC9FC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8A0-D4CD-4D31-AC4C-022821B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1E25-C5F3-476E-8F7F-FC094E88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831-CA16-4871-90A9-FDBC6D5C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5B4C-7CE7-4A2A-BF71-5034E647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F4CB-DE93-47BA-B449-875CEDBF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EC0A-77CA-484B-B392-75EED2F8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2D91-9F91-4D03-B152-1482435A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A87E-08E8-4248-9CC7-3AF09B80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CA09-177C-4349-A44F-4AFEBFC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6F22-76D2-4471-822C-FE55EFA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6D8-D0CC-41C1-80DB-CB715D86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40C9-35EA-4744-B4CE-9471B78A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BA9E-7FBC-4635-9E1C-893F19F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314F-A770-4FFC-80A6-BD81056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1855-6462-4A6E-B644-03A0235A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775-A23D-4A45-A005-7872C5E8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97C-72A2-4EE7-95C1-D274408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102-7B0E-4561-B7AD-6502A710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5E3-3240-4AC2-9F9B-048ECC88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70F-70E0-432D-ACA4-01CDA327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E72-420A-40F2-9371-E752C10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D25-A517-4497-9F66-1A177E7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8F0-7946-4F3C-880A-8C581BB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7FE-99F6-4E32-8FE2-B25CD2201CA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2670-9AC1-4905-9268-4C8EBBE80FE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365040" y="1365120"/>
            <a:ext cx="8675640" cy="2036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is the value of ECE to children, families and society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iti Hil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5" descr="Auckland Uni"/>
          <p:cNvPicPr/>
          <p:nvPr/>
        </p:nvPicPr>
        <p:blipFill>
          <a:blip r:embed="rId2"/>
          <a:stretch/>
        </p:blipFill>
        <p:spPr>
          <a:xfrm>
            <a:off x="3564000" y="5157720"/>
            <a:ext cx="20286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ly childhood education in Aotearoa/New Zealand is complex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history, our early childhood politics, the diversity of early childhood provision and our commitment to Te Tiriti o Waitangi are woven together in a  rich and complex ‘whariki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derstandings of ‘EDUCATION’ in early childhood settings have always been varied and offset by understandings about ‘CARE’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2004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CE remains a non-compulsory part of the education sec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CE remains diverse in its provis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CE remains wide open to market fo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CE remains varied in the areas of management and leadershi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uld things have been differen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re we lulled into a false sense of security by a chain of positive outcom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ust the historical decisions that have been made and the consequences of directions taken be part of what we do nex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n we stand up to what some see as the erosion of  everything that has been gained for EC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 fundamental tension between early childhood education as a profit-driven market response to trends in employment and early childhood education as the cornerstone of citizenship and lifelong learn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looked for a while as if we might see a coming together of economics, politics and edu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2010 that vision is fast being erod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few oases of inspiration, strong leadership and innovative pract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prevailing undercurrent of apathy, unhappiness and inaction amongst qualified teac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ries of management over-riding pedagogical decis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uncertain future for newly graduated teach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244440" y="103320"/>
            <a:ext cx="8880480" cy="143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ults in ECE must be ethically committed to the children they educ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ults in ECE must strategise and be critically aware; they must not be ‘done to’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ults in ECE must find their place as professionals in a market driven workpla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dults in ECE must look through and beyond rules, regulations, directives and policies to an ethical and professional pract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317520" y="103320"/>
            <a:ext cx="874728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le we, the adults, continue to struggle with the complexity of early childhood education, children from birth to 5 years of age continue to learn and develop: for better or worse, with or without u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can we all keep the focus on the best interests of children in early childhood?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can we support those adults finding the struggle just too hard?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30240"/>
            <a:ext cx="8296560" cy="2006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EB report on biodiversity (October 2010)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ollination of plants by insects is valued at $212 billion a year and must be factored into the political and economic policies of all countries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value should be placed on the learning and development of our youngest citizen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magine if that was factored into our political and economic policie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1:55:03Z</dcterms:created>
  <dc:creator>Valued eMachines Customer</dc:creator>
  <dc:description/>
  <dc:language>en-US</dc:language>
  <cp:lastModifiedBy>Valued Acer Customer</cp:lastModifiedBy>
  <dcterms:modified xsi:type="dcterms:W3CDTF">2010-11-03T20:34:53Z</dcterms:modified>
  <cp:revision>11</cp:revision>
  <dc:subject/>
  <dc:title>The economics of Early Childhood education:</dc:title>
</cp:coreProperties>
</file>